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898-60B2-4C85-BA49-0F05522B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80B-24B8-4949-B53B-1FC9A66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D7D-0BD2-4CEB-9E25-FA651412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2A8-2979-44E1-96DF-3DA6AF71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C4BA-04B6-4870-B620-95474832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68A3-7079-4736-8F31-9E003E4B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0577-DE96-4EFB-8949-E06EBFB1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7D4E-518B-4393-9BE5-123ECF2D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3623-06CA-4E64-8FB9-B7A2608E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F8E6-A16D-4F8B-9D40-304B26A4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7E10-5511-4EF3-8295-D9CCB3C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690-6417-433F-86B5-01BA2E4A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A42A-03AF-443F-96AE-86231AB4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F5A7-CF35-4AC5-895D-EAEAD0AB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FF6C-0C95-485A-9DE4-BC36A256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8123-1813-468E-A383-45647BEF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7D4C-3DA7-4152-96CB-3CBD6055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8B0-7956-4CAC-B327-11E38D43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BF5-32DE-4F0B-83E9-B2D3A327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805-E6EE-435A-BAB3-78563E9D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F36-4ACA-4AD3-8E49-F1932958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8AC-14E0-42DB-95E7-11CC2EE7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E1B-E101-494D-8C43-926DDC37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C08-4760-42E8-A4EB-8E9222B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3E72-3154-4233-AC6B-B75D42EF16E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3E90-7A4B-4981-8B2E-2CEC53763E8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thechinaguide.com/forbidden_city/index.php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ws.nationalgeographic.com/news/2007/09/070926-china-rice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ina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eography and Histor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ang Dynasty (618-907 A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uler: T’ai Tsu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licies: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 educated advisors (Han Dynasty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 land for every man (Sui Dynasty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 census (Sui Dynasty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dvancement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 trade and cities grew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mpress Wu Cha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’ai Tsung’s girlfrie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aozong’s girlfriend (T’ai Tsung’s son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uled after Gaozong’s death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gent to her son before forcing him off the throne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moved from power at the at of 79 (705 AD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ivil W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suan Tsung took control in 712 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xpanded borde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opped Arab invas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ule ended due to focus on philosophy and the ar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ore Civil Wa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ung Dynasty (907-1279 A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ivil Wars continu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akened defen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emies were paid in gold to not inva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axes increas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xaminations continued for political offi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Deal Gone Wrong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Juchen in Northern Chi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uthern Sung Dynasty develop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rade with India created an economy based on paper mone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ongol Empire (1279-1368 A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y 1276 they had control of Chin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ader: Kublai Kh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licie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nquer other lan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ffices to foreigner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f131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rco Po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eep Mongolian language and culture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lack Death (1330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eakened the Mongol Empi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d Turbons (1350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rove out Mongol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nited China under the Ming Dynas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ng Dynasty (1368-1644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ader: Hung W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entralized power (Tang Dynasty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aminations for office (Han Dynasty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Imperial Pala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istory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ne Ag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change in climate made them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settle and farm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ople settled near water because of farming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entral As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hang Dynasty (1523-1027 BC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Bronze Age occurred when bronze was developed and used for creating tools and weapon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Egyptians and the Asians.  The writing is the same as what is used today, only an earlier version written on bones that supposedly told the futu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nes and tortoise shell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king ruled, which united the people under the Shang Dynasty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re was a rich and poor clas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eople learned about Chariots from Central Asi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Shang Dynasty lasted about 700 yea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032360" y="2577960"/>
            <a:ext cx="36176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ou Dynasty (1027-221 BC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00 kingdoms existed under the Chou empero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vaders from the northwest pushed the people to the eas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people learned how to make iron for tools and farming, which made production easi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ron was used to make weapons, which encouraged warfar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the wars, only 7 kingdoms were left, and eventually only King Ch’in, who defeated the other 6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’in Dynasty (221-206 BC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made the people use the same writing and system of weight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chose his own assistants and sent them out as governors and judges for parts of his empir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ordered the Great Wall of China to be buil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Han Dynasty (206 BC – 220 AD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Huns were removed by Wu T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u Ti set up the Silk Road for trad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ilk Road connected Asia with Egypt and the Roman Empi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Young, intelligent, hard working men were chosen for university, which was paid for by the government.  They learned Confucian philosophy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n Ch’ao was gone exploring for 28 years, and learned about the Roman Empire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uring the end of the Han Dynasty there was continuous fighting for power, rebellions, and a smallpox epidemic.  This opened the door for generals to take control of the empire, resulting in three main areas of leadership:  Wei, Shu Han, and Wu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ui Dynasty (581-618 A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5.  He wanted to decrease taxes for the poor, conducted a census for tax information, and wanted to give land to every man, who would pass it on to his sons at the age of 60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6. Wen Ti did what was done during the Han Dynasty.  He chose advisors from universities to find educated and fair me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ang Ti constructed a Grand Canal that connected the Yellow River with the Yangtze and Huai Rivers.  This connected north and south China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ang Ti tried to invade Korea, which was a mistake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6:16:48Z</dcterms:created>
  <dc:creator> Erin McCarthy</dc:creator>
  <dc:description/>
  <dc:language>en-US</dc:language>
  <cp:lastModifiedBy>Erin McCarthy</cp:lastModifiedBy>
  <dcterms:modified xsi:type="dcterms:W3CDTF">2010-03-16T19:23:12Z</dcterms:modified>
  <cp:revision>8</cp:revision>
  <dc:subject/>
  <dc:title>China  Geography and History</dc:title>
</cp:coreProperties>
</file>